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D972-8775-4F87-A5D7-500C19E4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89AD-662F-4893-B307-F3F08BA8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670-B672-410D-8583-243C347F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BC01-EB81-4CC0-8351-CFFEC9F3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763D-C167-4E8E-AC35-DC444A02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B9EA-B1D0-451C-AACE-8F0948AB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6630-B0DC-4FE2-B983-3629D7AA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145A-6BD4-489A-971B-E8CC8D5C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0C1E-9C38-45DA-8288-5C6F6AB6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E953-1A8E-49C2-842E-9D09D662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A99C-EE46-42B3-89BD-2AD36E23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35AD-055F-4B3B-9CDA-F263CBEB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6176-C460-41AA-975E-9DA667A8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AEB4-8B5A-4386-B71C-A244BDF6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7BA8-F8A1-4098-90F9-34F17686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63E3-9A3B-4579-98C0-ECA346A0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ED45-DD15-47D8-A96B-A32F9AC6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543-BFF8-4B1D-9A33-08A18056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C52-7D64-4E7A-A53F-5CDD6EFD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3DA4-815B-49A8-9270-A8A4FFF4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DF0-210D-4706-85B2-1C70FF41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2A0-5F9A-416C-AAEB-FD7C6086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4DF-59A6-43FB-8FB7-81916005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B649-D3E8-4BB9-B309-B4EAAF18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721F-840D-4998-9A18-855248550A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9DF0-2AFB-40DB-862F-9B590F7D73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24000" y="40464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ЯЯ ОБЩЕОБРАЗОВАТЕЛЬНАЯ ШКОЛА /№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55640" y="1557360"/>
            <a:ext cx="69850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став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сональн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пьюте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4005360"/>
            <a:ext cx="3240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: Файзуллин Ф. 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еника 8 «Г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ерил: Петухова И. 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595008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ург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003280" y="1773360"/>
            <a:ext cx="4140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устройства П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Монит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Клавиату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кропроцесс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еративная памя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есткий дис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                устройства П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нипулятор «мышь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вуковые колон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д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55640" y="115920"/>
            <a:ext cx="73454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став персонального компьюте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4608720" cy="273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30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25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350"/>
                            </p:stCondLst>
                            <p:childTnLst>
                              <p:par>
                                <p:cTn id="6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8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8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6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9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410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9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3640" y="4653000"/>
            <a:ext cx="8497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03160"/>
                <a:tab algn="l" pos="1349280"/>
                <a:tab algn="l" pos="1617840"/>
                <a:tab algn="l" pos="1795320"/>
                <a:tab algn="l" pos="2063880"/>
                <a:tab algn="l" pos="2330280"/>
                <a:tab algn="l" pos="2776680"/>
                <a:tab algn="l" pos="304488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итор служит для общения компьютера с пользователем. На нем компьютер отображает текст 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унки. Изображение на мониторе состоит из отдельных маленьких точек, называемых пикселя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 rot="21462600">
            <a:off x="1692000" y="404640"/>
            <a:ext cx="489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нито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396108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476360" y="5157360"/>
            <a:ext cx="5446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авиатура предназначена для вв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формации в память компьют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979640" y="333360"/>
            <a:ext cx="43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0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лави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20000" cy="3249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71236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кропроцессор – микросхема, выполняющая обработку всей информации в компьютере. Микропроцессор – «мозг» компьют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63640" y="115920"/>
            <a:ext cx="5327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кропроцесс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97400" cy="3554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есткий диск встроен внутрь системного блока и постоянно находится там. Жесткий диск представляет собой набор металлических или керамических дисков, покрытых магнитным сло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00000" y="404640"/>
            <a:ext cx="61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есткий дис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274920" cy="4740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еративная память предназначена для хранения программ и данных, которые используются процессором в текущий момент. Содержимое оперативной памяти пропадает после выключения 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 rot="358800">
            <a:off x="1044720" y="17640"/>
            <a:ext cx="6627600" cy="18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перативная памя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427640" y="2708280"/>
            <a:ext cx="4500360" cy="1863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19:21:38Z</dcterms:created>
  <dc:creator>comp28-11</dc:creator>
  <dc:description/>
  <dc:language>en-US</dc:language>
  <cp:lastModifiedBy>comp28-11</cp:lastModifiedBy>
  <dcterms:modified xsi:type="dcterms:W3CDTF">2006-12-31T19:38:01Z</dcterms:modified>
  <cp:revision>5</cp:revision>
  <dc:subject/>
  <dc:title>Слайд 1</dc:title>
</cp:coreProperties>
</file>